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448-CFD3-4258-B8C7-9D41ECF8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F9C-648F-40A8-961B-54621C98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CF9-9517-4AA8-92E4-865758E9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5D5-A9AC-4AAF-A5F8-68AD5F1A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97D-DD0F-47AD-AA8B-89D69018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AE9D-2FA8-4DF5-A94E-DA0EF230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3260-1BF1-41AA-A4CB-77A8B5D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D7C4-949E-41D5-9676-B48AD542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0F09-1525-43AC-9698-3CC5599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8B41-F5AA-41CA-AC99-51E0DDF1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696F-7D8D-4CFF-9BBE-6DCED56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7A9-1270-4650-845F-8A16AE19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3DF-03B5-438B-906B-275D54E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790-7188-47A8-ACBA-0CAD03F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67D-2A33-419D-BF90-07A8E281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C30B-29A9-4F36-8498-726E5F69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FC09-8D51-4EDA-88AF-932E5A10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186-2BCA-4E17-9546-47BD1C59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523-3A92-49C1-9025-AB27B09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55B-9B1F-4C1A-A726-5A984885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A93-7EFE-4106-AEA5-02DC7FA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8BE-80EC-4A7E-A609-29FFCD8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5F4-D033-4832-AA8D-0135380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A98-8DB7-4B7B-835F-706FB36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1F0-8907-427C-86F4-422FC89D7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3D0-C177-49E8-B6A3-BB0601EF75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az 171" descr=""/>
          <p:cNvPicPr/>
          <p:nvPr/>
        </p:nvPicPr>
        <p:blipFill>
          <a:blip r:embed="rId1"/>
          <a:stretch/>
        </p:blipFill>
        <p:spPr>
          <a:xfrm>
            <a:off x="792000" y="1494000"/>
            <a:ext cx="8010720" cy="1992240"/>
          </a:xfrm>
          <a:prstGeom prst="rect">
            <a:avLst/>
          </a:prstGeom>
          <a:ln w="0">
            <a:noFill/>
          </a:ln>
        </p:spPr>
      </p:pic>
      <p:pic>
        <p:nvPicPr>
          <p:cNvPr id="98" name="Obraz 201" descr=""/>
          <p:cNvPicPr/>
          <p:nvPr/>
        </p:nvPicPr>
        <p:blipFill>
          <a:blip r:embed="rId2"/>
          <a:stretch/>
        </p:blipFill>
        <p:spPr>
          <a:xfrm>
            <a:off x="927000" y="3833640"/>
            <a:ext cx="7831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L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000" y="4419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lokąt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rzchoł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, B, C, D, E, F,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k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B, BC, CD, DE, EF, FG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ąty wewnętrzn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BC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BCD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CDE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DEF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EFG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GA;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G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zwa wielokąta zależy od ilości ką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nasz wielokąt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dmi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210" descr=""/>
          <p:cNvPicPr/>
          <p:nvPr/>
        </p:nvPicPr>
        <p:blipFill>
          <a:blip r:embed="rId1"/>
          <a:stretch/>
        </p:blipFill>
        <p:spPr>
          <a:xfrm>
            <a:off x="2727360" y="1089000"/>
            <a:ext cx="3554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20720" y="3158640"/>
            <a:ext cx="80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ostokąt to czworokąt, który ma wszystkie kąty proste (miara kąta prostego 90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2360" y="363924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ymiary prostokąta to jego długość i szerok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7280" y="4200840"/>
            <a:ext cx="764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łasności prostoką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cztery wierzchołk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, B, C,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B| = |CD|; |BC|= |AD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ma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ie pary boków równoległ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|| CD; BC ||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dwa sąsiednie boki prostokąta są prostopadł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AB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BC; BC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CD; </a:t>
            </a:r>
            <a:br>
              <a:rPr sz="1800"/>
            </a:b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  C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D; AD </a:t>
            </a:r>
            <a:r>
              <a:rPr b="1" lang="pl-PL" sz="1800" spc="-1" strike="noStrike">
                <a:solidFill>
                  <a:srgbClr val="0000ff"/>
                </a:solidFill>
                <a:latin typeface="Symbol"/>
                <a:ea typeface="Symbol"/>
              </a:rPr>
              <a:t>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rzekątne połowią się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|AO|= |OC|; 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457360" y="998640"/>
          <a:ext cx="414180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998640"/>
                    <a:ext cx="414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53400" y="3472200"/>
            <a:ext cx="8320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wód prostokąta jest sumą długości jego boków: AB + BC + CD + AD =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le prostokąta jest iloczynem jego sąsiednich boków: AB · BC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 =  a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WADR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0920" y="174276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ysuj kwadrat i oznacz jego wierzchołki oraz zaznacz przekąt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odpowiedz na pyt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Czy kwadrat jest prostoką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le wierzchołków ma kwadrat, wypisz 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Jakie są długości boków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Co możesz powiedzieć o przekątnych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. Jak obliczamy obwód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. Jak obliczamy pole kwadra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1793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1132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liczba oznaczająca ile razy daną rzecz pomniejszyliśmy lub powiększy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6680" y="1854000"/>
            <a:ext cx="32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zeczywiste wym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 :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kala powiększają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67000" y="3098880"/>
          <a:ext cx="654516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3098880"/>
                    <a:ext cx="65451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107000" y="50288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Skala obrazy pomniejszać chc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ięc dzielenie wykonać musiał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Gdy powiększać obraz przyszło j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ykonać mnożenie musi OJEJ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4:40Z</dcterms:modified>
  <cp:revision>83</cp:revision>
  <dc:subject/>
  <dc:title>Slajd 1</dc:title>
</cp:coreProperties>
</file>